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2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9.wmf" ContentType="image/x-wmf"/>
  <Override PartName="/ppt/media/image13.wmf" ContentType="image/x-wmf"/>
  <Override PartName="/ppt/media/image5.png" ContentType="image/png"/>
  <Override PartName="/ppt/media/image8.wmf" ContentType="image/x-wmf"/>
  <Override PartName="/ppt/media/image19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.jpeg" ContentType="image/jpeg"/>
  <Override PartName="/ppt/media/image14.wmf" ContentType="image/x-wmf"/>
  <Override PartName="/ppt/media/image6.png" ContentType="image/png"/>
  <Override PartName="/ppt/media/image2.png" ContentType="image/png"/>
  <Override PartName="/ppt/media/image4.jpeg" ContentType="image/jpeg"/>
  <Override PartName="/ppt/media/image10.wmf" ContentType="image/x-wmf"/>
  <Override PartName="/ppt/media/image7.wmf" ContentType="image/x-wmf"/>
  <Override PartName="/ppt/media/image12.wmf" ContentType="image/x-wmf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  <p:sldId id="277" r:id="rId28"/>
    <p:sldId id="278" r:id="rId29"/>
  </p:sldIdLst>
  <p:sldSz cx="9144000" cy="6858000"/>
  <p:notesSz cx="9925050" cy="6796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slide" Target="slides/slide22.xml"/><Relationship Id="rId29" Type="http://schemas.openxmlformats.org/officeDocument/2006/relationships/slide" Target="slides/slide23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"/>
          <p:cNvSpPr/>
          <p:nvPr/>
        </p:nvSpPr>
        <p:spPr>
          <a:xfrm>
            <a:off x="0" y="0"/>
            <a:ext cx="9925200" cy="679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dt" idx="13"/>
          </p:nvPr>
        </p:nvSpPr>
        <p:spPr>
          <a:xfrm>
            <a:off x="5624640" y="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 type="sldImg"/>
          </p:nvPr>
        </p:nvSpPr>
        <p:spPr>
          <a:xfrm>
            <a:off x="3263760" y="509400"/>
            <a:ext cx="3399120" cy="2547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move the slide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 type="ftr" idx="14"/>
          </p:nvPr>
        </p:nvSpPr>
        <p:spPr>
          <a:xfrm>
            <a:off x="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 type="sldNum" idx="15"/>
          </p:nvPr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23CAC-A319-40EA-AFCC-F2B6BC030D39}" type="slidenum">
              <a:rPr b="0" lang="en-Z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102B2-068E-4983-990E-ADD5C78CA3A7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3263760" y="509760"/>
            <a:ext cx="3399120" cy="254772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92160" y="3228840"/>
            <a:ext cx="7942320" cy="305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Z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Slide Number Placeholder 3"/>
          <p:cNvSpPr/>
          <p:nvPr/>
        </p:nvSpPr>
        <p:spPr>
          <a:xfrm>
            <a:off x="5624640" y="6456240"/>
            <a:ext cx="4300560" cy="3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C2D13-8795-4899-AA2B-D5F547204CCD}" type="slidenum">
              <a:rPr b="0" lang="en-Z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0E706-E17D-45DB-A4C3-40EB94CA24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DB88-0D14-4022-BD3C-3CDD12A29E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A1382-38B8-47B4-B947-D137AA6B5C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540AE-CE5F-4699-8B13-F1ABD3A43E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C75D-0F02-4D71-8AEA-9000425D00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F60DE-9228-4995-8199-E64C61E2C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E17995-2E3B-4E0E-9355-F6D73D5AE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6FEA2-5F58-467F-9611-63FC89CFCC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93CDAA-BF80-495D-B9E0-991044091A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49915-EF73-43B8-9DD8-D50441B778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F7EA9F-C5EA-430C-BCE5-CE3F7B22E0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60868-4C83-453E-8EEE-F08B078E4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5069C-AE45-4504-8B45-DB111693B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CF32B3-158B-4A08-93B4-03AE6A7B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C209D3-04EF-44A6-AFEF-4FEA1BC055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3BCF4-2FF5-4586-A5BB-0CCA6BE728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5B4B0-A48B-4CDF-AF73-625E2930B8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64850FC-38C5-4836-AB56-93C0126D9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868B828-AEEF-4C4F-84EA-89F41DA184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57AA4C-FA98-40E9-8CD2-D1DAC79BB4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8526D9-ECF2-43FA-9C77-6F55E39FA3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DC6AE1-2847-4FFC-8669-9F27E912F2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69DC7-6674-4175-B176-FCFB2E458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903FA-A9FB-4F8F-A3FE-335E03086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1720D37-29DB-4D83-9F0A-D91BDD8D2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9A7769-45BA-404F-AAC7-7BE9F7156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E546C7-43C1-4062-9A20-4A93FA113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53BAB3-5A23-4819-BF08-77CD0F5B70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C63CEA-6991-4CA6-A6D7-E49726F071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B8DDC0-D721-45AB-85C8-2ED9EDA1FF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4AEB69-78A3-4310-B4CA-825D4F674C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B4554FC-6D31-4D48-BEEE-0EF56699D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DBE990-D718-44EC-A6C0-64CD2B99B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5E061-8876-407A-9C1C-2A6B20797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0C39EC-C618-455C-8475-3D758770F7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5D650F-5C30-4AAC-B330-5A94F2E59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1A4EA7-960C-4E05-BA8E-91DC3CC62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D346721-27A6-4E65-899C-09AC828F4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BA410E-4CB8-4322-9A6D-EE95977E2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FDABCE-6BDD-466C-8966-68F5C1BB91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27ADB3-85B5-4E75-8304-3A51BA3029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DF93505-6534-4DF9-950A-8EC23AD90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989049-A281-48AA-84AD-2F7AED90F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C158-E546-47A5-888B-DDB4989A95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2BE17-209E-4A40-9637-3B28AF77E5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7FFEF-9FFE-4109-865B-6326BEB25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F22D-1EB1-4C38-B9C6-E4B79B2B1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63AE6-2F40-41DF-BCA3-494B991F97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DC4F5D-BD2C-492C-924F-65216ECC7CE4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FFC768-41D8-4403-9609-68E8C75D6D55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5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5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7878D4-DE08-44B9-BFC6-83497B9F1CDB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72694-8024-44BB-BC95-FDF850EBD131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Freeform 11"/>
            <p:cNvGrpSpPr/>
            <p:nvPr/>
          </p:nvGrpSpPr>
          <p:grpSpPr>
            <a:xfrm>
              <a:off x="-19080" y="203040"/>
              <a:ext cx="9156600" cy="648000"/>
              <a:chOff x="-19080" y="203040"/>
              <a:chExt cx="9156600" cy="648000"/>
            </a:xfrm>
          </p:grpSpPr>
          <p:pic>
            <p:nvPicPr>
              <p:cNvPr id="104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356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Freeform 12"/>
            <p:cNvGrpSpPr/>
            <p:nvPr/>
          </p:nvGrpSpPr>
          <p:grpSpPr>
            <a:xfrm>
              <a:off x="-19080" y="248040"/>
              <a:ext cx="9181080" cy="561600"/>
              <a:chOff x="-19080" y="248040"/>
              <a:chExt cx="9181080" cy="561600"/>
            </a:xfrm>
          </p:grpSpPr>
          <p:pic>
            <p:nvPicPr>
              <p:cNvPr id="107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1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4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9B34BE-3C4F-48CC-8F7C-8F6D123BC15F}" type="datetime">
              <a:rPr b="0" lang="en-US" sz="1200" spc="-1" strike="noStrike">
                <a:solidFill>
                  <a:srgbClr val="d1eaee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d1eaee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FE15E5-5E4C-4CCA-95C3-3BEE781B76B9}" type="slidenum">
              <a:rPr b="0" lang="en-ZA" sz="1200" spc="-1" strike="noStrike">
                <a:solidFill>
                  <a:srgbClr val="d1eaee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/>
            <a:ahLst/>
            <a:rect l="l" t="t" r="r" b="b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70CE7-E443-4D7D-86A5-B1BA66F5D9F6}" type="datetime">
              <a:rPr b="0" lang="en-US" sz="1200" spc="-1" strike="noStrike">
                <a:solidFill>
                  <a:srgbClr val="045c75"/>
                </a:solidFill>
                <a:latin typeface="Constantia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 type="sldNum" idx="12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ZA" sz="1200" spc="-1" strike="noStrike">
                <a:solidFill>
                  <a:srgbClr val="045c75"/>
                </a:solidFill>
                <a:latin typeface="Constant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283DAE-8049-4050-8D11-9B71FF5201A7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7.xml"/><Relationship Id="rId4" Type="http://schemas.openxmlformats.org/officeDocument/2006/relationships/notesSlide" Target="../notesSlides/notesSlide2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28760" y="1176480"/>
            <a:ext cx="264312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600" spc="-1" strike="noStrike">
                <a:solidFill>
                  <a:srgbClr val="04617b"/>
                </a:solidFill>
                <a:latin typeface="Century Gothic"/>
              </a:rPr>
              <a:t>BEAUFORT WES MUNISIPALITEIT</a:t>
            </a:r>
            <a:endParaRPr b="0" lang="en-US" sz="26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KONSEP BEGROTING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400" spc="-1" strike="noStrike">
                <a:solidFill>
                  <a:srgbClr val="000000"/>
                </a:solidFill>
                <a:latin typeface="Century Gothic"/>
              </a:rPr>
              <a:t>2021/22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04" name="Object 4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B707D6-B873-4809-85D0-EBAA6437E47C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412640"/>
            <a:ext cx="8229600" cy="491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 Gothic"/>
              </a:rPr>
              <a:t>Ander algemene uitgawes behels die volgende: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70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978192-48B3-43A2-9F53-1D182C409473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1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935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tarief verhogings word voorgestel vir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Belasting                                 - 5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Water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ullis                                        - 9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iool                  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Elektrisiteit                               - 17.8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verse tariewe                      - 6%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D75F37-51DB-43CF-A338-EA0676110D0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4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Groot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681 000 (R 70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3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F32C2-D245-4F06-AE32-C94AE91643A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7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E49A3-7973-432F-B053-6018CA11116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9" name="Picture 2" descr=""/>
          <p:cNvPicPr/>
          <p:nvPr/>
        </p:nvPicPr>
        <p:blipFill>
          <a:blip r:embed="rId1"/>
          <a:stretch/>
        </p:blipFill>
        <p:spPr>
          <a:xfrm>
            <a:off x="457200" y="2421000"/>
            <a:ext cx="8229600" cy="373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79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Medium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431 000 (R 450 0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600 kWh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5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9C9CB-031A-4E06-BB77-C3FFFD0C602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8BE66D-7970-45B0-B126-8A853FDB794B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6" name="Picture 1" descr=""/>
          <p:cNvPicPr/>
          <p:nvPr/>
        </p:nvPicPr>
        <p:blipFill>
          <a:blip r:embed="rId1"/>
          <a:stretch/>
        </p:blipFill>
        <p:spPr>
          <a:xfrm>
            <a:off x="457200" y="2468520"/>
            <a:ext cx="8229600" cy="368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ns word gemaak vir ‘n Klein Huishoud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Waardasie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R 11 600 (R 30 600 minus R 19 000 korting)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elektrisiteit verbruik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200 eenhede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Gemiddelde water: </a:t>
            </a: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10 kl per maand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A42D-F684-4AA5-AA1B-179237DEB35F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1068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Effek van die tarief verhogings op huishoudelike rekening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tarief verhogings het die volgende invloed op munisipale rekening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1FE76-B0CA-4178-B0D1-D647E5D7233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3" name="Picture 1" descr=""/>
          <p:cNvPicPr/>
          <p:nvPr/>
        </p:nvPicPr>
        <p:blipFill>
          <a:blip r:embed="rId1"/>
          <a:stretch/>
        </p:blipFill>
        <p:spPr>
          <a:xfrm>
            <a:off x="457200" y="2847960"/>
            <a:ext cx="8229600" cy="33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`n Bedrag van R 41.07 miljoen word toegewys aan die verskaffing van gratis dienste in terme van die Raad se Deernis Beleid.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aan huishoudings met ‘n inkomste vanaf R0,00 tot R1,890 beloop</a:t>
            </a: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 50 kWh Elektrisiteit,   6 kl water per maand en 10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200" spc="-1" strike="noStrike">
                <a:solidFill>
                  <a:srgbClr val="000000"/>
                </a:solidFill>
                <a:latin typeface="Century Gothic"/>
              </a:rPr>
              <a:t>Die gratis basiese dienste aan huishoudings met ‘n inkomste vanaf R1,891 tot R3,780 beloop 50 kWh Elektrisiteit,   6 kl water per maand en 70% subsidie vir Riool en Vullis per maand.  </a:t>
            </a:r>
            <a:endParaRPr b="0" lang="en-US" sz="22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DD9A2-EA66-4EB7-9459-0716D028E91A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68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E6FD3-0F6F-4B18-8D25-A115F2FFEB0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0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INLEIDING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Voorgestelde Bedryfs en Kapitaal begrotings was voorberei inaggenome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munisipaliteit se GOP (IDP);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Nasionale Tesourie se voorskrifte; 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Nasionale, Provinsiale en Plaaslike Ekonomiese omstandighede waaraan ons munisipaliteit blootgestel is; en 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Plaaslike Ekonomiese Ontwikkeling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9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558727-F762-45A6-BFF7-79415A503FB5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4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3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CA025-9B72-4A46-BFB7-EE1073006AE6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Picture 1" descr=""/>
          <p:cNvPicPr/>
          <p:nvPr/>
        </p:nvPicPr>
        <p:blipFill>
          <a:blip r:embed="rId1"/>
          <a:stretch/>
        </p:blipFill>
        <p:spPr>
          <a:xfrm>
            <a:off x="900000" y="2643120"/>
            <a:ext cx="7344000" cy="351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Gratis basiese dienste</a:t>
            </a: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Deernissubsidi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76" name=""/>
          <p:cNvSpPr txBox="1"/>
          <p:nvPr/>
        </p:nvSpPr>
        <p:spPr>
          <a:xfrm>
            <a:off x="457200" y="1699920"/>
            <a:ext cx="8229600" cy="4624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00000"/>
                </a:solidFill>
                <a:latin typeface="Century Gothic"/>
              </a:rPr>
              <a:t>Deernissubsidie vanaf 01 Julie 2021</a:t>
            </a: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62C14-F0F6-471E-ADB4-1E4A648690AD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1" descr=""/>
          <p:cNvPicPr/>
          <p:nvPr/>
        </p:nvPicPr>
        <p:blipFill>
          <a:blip r:embed="rId1"/>
          <a:stretch/>
        </p:blipFill>
        <p:spPr>
          <a:xfrm>
            <a:off x="1547640" y="3219480"/>
            <a:ext cx="6264360" cy="100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70812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4617b"/>
                </a:solidFill>
                <a:latin typeface="Century Gothic"/>
              </a:rPr>
              <a:t>Korting toegestaan aan Pensionarisse</a:t>
            </a:r>
            <a:endParaRPr b="0" lang="en-US" sz="32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324785-6717-4019-AB4E-AA18FD08053D}" type="slidenum">
              <a:rPr b="0" lang="en-ZA" sz="1200" spc="-1" strike="noStrike">
                <a:solidFill>
                  <a:srgbClr val="045c75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1" name="Content Placeholder 3" descr=""/>
          <p:cNvPicPr/>
          <p:nvPr/>
        </p:nvPicPr>
        <p:blipFill>
          <a:blip r:embed="rId1"/>
          <a:stretch/>
        </p:blipFill>
        <p:spPr>
          <a:xfrm>
            <a:off x="755640" y="1916280"/>
            <a:ext cx="7777080" cy="4236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09480" y="1176480"/>
            <a:ext cx="2462400" cy="1582560"/>
          </a:xfrm>
          <a:prstGeom prst="rect">
            <a:avLst/>
          </a:prstGeom>
          <a:noFill/>
          <a:ln w="0">
            <a:noFill/>
          </a:ln>
        </p:spPr>
        <p:txBody>
          <a:bodyPr lIns="45720" rIns="4572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Thank</a:t>
            </a: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 You</a:t>
            </a:r>
            <a:br>
              <a:rPr sz="2800"/>
            </a:br>
            <a:br>
              <a:rPr sz="2800"/>
            </a:br>
            <a:r>
              <a:rPr b="1" lang="en-ZA" sz="2800" spc="-1" strike="noStrike">
                <a:solidFill>
                  <a:srgbClr val="04617b"/>
                </a:solidFill>
                <a:latin typeface="Calibri"/>
              </a:rPr>
              <a:t>Baie Dankie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120" y="2828520"/>
            <a:ext cx="2210040" cy="217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64080" rIns="45720" anchor="t">
            <a:normAutofit/>
          </a:bodyPr>
          <a:p>
            <a:pPr indent="0" algn="ctr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indent="0" algn="ctr">
              <a:lnSpc>
                <a:spcPct val="10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3200" spc="-1" strike="noStrike">
                <a:solidFill>
                  <a:srgbClr val="000000"/>
                </a:solidFill>
                <a:latin typeface="Century Gothic"/>
              </a:rPr>
              <a:t>enKosi</a:t>
            </a:r>
            <a:endParaRPr b="0" lang="en-US" sz="3200" spc="-1" strike="noStrike">
              <a:solidFill>
                <a:srgbClr val="000000"/>
              </a:solidFill>
              <a:latin typeface="Constantia"/>
            </a:endParaRPr>
          </a:p>
        </p:txBody>
      </p:sp>
      <p:graphicFrame>
        <p:nvGraphicFramePr>
          <p:cNvPr id="284" name="Object 2"/>
          <p:cNvGraphicFramePr/>
          <p:nvPr/>
        </p:nvGraphicFramePr>
        <p:xfrm>
          <a:off x="4932360" y="2241720"/>
          <a:ext cx="1724040" cy="184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32360" y="2241720"/>
                    <a:ext cx="1724040" cy="184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6" name="Slide Number Placeholder 4"/>
          <p:cNvSpPr/>
          <p:nvPr/>
        </p:nvSpPr>
        <p:spPr>
          <a:xfrm>
            <a:off x="807732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B10CC-6431-4DA5-9B81-D8BE5ABBC6F8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457200" y="1844640"/>
            <a:ext cx="8229600" cy="447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aannames was gemaak met die opstel van die begrotin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beraamde VPI deur Nasionale Tesourie van 4.1% vir die 2021/22 finansiële jaar en 4.4%; 4.5% vir die daaropvolgende twee jare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Salaris aanpassing vir 2021/22 is gebasseer op TASK skale plus 4.0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erhoging in koste van grootmaat elektrisiteit aankope is 17.8%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Voorsiening vir oninbare skulde beloop 6.8% van alle dienste en belasting heffings;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DB6FC2-6201-4B98-97B6-96429B193FD4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99540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DRYFS- EN KAPITAAL BEGROTING 2021/22</a:t>
            </a:r>
            <a:br>
              <a:rPr sz="2800"/>
            </a:br>
            <a:r>
              <a:rPr b="1" lang="nl-NL" sz="2800" spc="-1" strike="noStrike">
                <a:solidFill>
                  <a:srgbClr val="04617b"/>
                </a:solidFill>
                <a:latin typeface="Century Gothic"/>
              </a:rPr>
              <a:t>BEGROTINGS AANNAMES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457200" y="1773360"/>
            <a:ext cx="8229600" cy="455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Alhoewel die verwagte inflasie koers soos geprojekteer deur Nasionale Tesourie 4.1% gaan beloop vir 2021/22 sal die bedryfs uitgawes met ‘n hoër persentasie styg weens die groei in inset kost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5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3AAD6-DC92-418C-8BFE-B2BF64CEA73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17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`n Kapitaal Begroting van R 23,465 miljoen word voorgestel vir 2021/22 (R 27,245miljoen &amp;  R22,523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2021/22 kapitaalbegroting word as volg gefinansier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18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25377-6553-4BC4-8C5A-EA0CF88A69D7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Picture 1" descr=""/>
          <p:cNvPicPr/>
          <p:nvPr/>
        </p:nvPicPr>
        <p:blipFill>
          <a:blip r:embed="rId1"/>
          <a:stretch/>
        </p:blipFill>
        <p:spPr>
          <a:xfrm>
            <a:off x="826920" y="4076640"/>
            <a:ext cx="7859880" cy="207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Kapitaal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457200" y="1483920"/>
            <a:ext cx="8229600" cy="484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volgende is `n opsomming van die groter kapitaal projekte wat onderneem sal word gedurende 2021/22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2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0D0E5C-5917-4306-BD6D-515359DC2DE0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1" descr=""/>
          <p:cNvPicPr/>
          <p:nvPr/>
        </p:nvPicPr>
        <p:blipFill>
          <a:blip r:embed="rId1"/>
          <a:stretch/>
        </p:blipFill>
        <p:spPr>
          <a:xfrm>
            <a:off x="463680" y="2692440"/>
            <a:ext cx="81406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457200" y="1341000"/>
            <a:ext cx="8229600" cy="501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2400" spc="-1" strike="noStrike">
                <a:solidFill>
                  <a:srgbClr val="000000"/>
                </a:solidFill>
                <a:latin typeface="Century Gothic"/>
              </a:rPr>
              <a:t>Die verwagte inkomste vir die 2021/22 finansiële jaar beloop R 357,070 miljoen (R 383,084 miljoen en             R 381,453  miljoen vir die daaropvolgende twee jare)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hoof inkomste bronne is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111EFD-2A57-47BC-BB37-3682F55296F3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1" descr=""/>
          <p:cNvPicPr/>
          <p:nvPr/>
        </p:nvPicPr>
        <p:blipFill>
          <a:blip r:embed="rId1"/>
          <a:stretch/>
        </p:blipFill>
        <p:spPr>
          <a:xfrm>
            <a:off x="539640" y="3141720"/>
            <a:ext cx="8147160" cy="301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852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557360"/>
            <a:ext cx="8229600" cy="476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Ander eie inkomste behels die volgende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5FA64C-3A5D-4892-BC48-2B9FEF9FC989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" descr=""/>
          <p:cNvPicPr/>
          <p:nvPr/>
        </p:nvPicPr>
        <p:blipFill>
          <a:blip r:embed="rId1"/>
          <a:stretch/>
        </p:blipFill>
        <p:spPr>
          <a:xfrm>
            <a:off x="684360" y="2543040"/>
            <a:ext cx="7416720" cy="378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704880"/>
            <a:ext cx="8229600" cy="636480"/>
          </a:xfrm>
          <a:prstGeom prst="rect">
            <a:avLst/>
          </a:prstGeom>
          <a:noFill/>
          <a:ln w="0">
            <a:noFill/>
          </a:ln>
        </p:spPr>
        <p:txBody>
          <a:bodyPr lIns="0" rIns="0" bIns="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2800" spc="-1" strike="noStrike">
                <a:solidFill>
                  <a:srgbClr val="04617b"/>
                </a:solidFill>
                <a:latin typeface="Century Gothic"/>
              </a:rPr>
              <a:t>Voorgestelde Bedryfs Begroting 2021/22</a:t>
            </a:r>
            <a:endParaRPr b="0" lang="en-US" sz="28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33" name=""/>
          <p:cNvSpPr txBox="1"/>
          <p:nvPr/>
        </p:nvSpPr>
        <p:spPr>
          <a:xfrm>
            <a:off x="457200" y="1484280"/>
            <a:ext cx="8229600" cy="5113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000000"/>
                </a:solidFill>
                <a:latin typeface="Century Gothic"/>
              </a:rPr>
              <a:t>Die geprojekteerde bedryfsuitgawe vir die 2021/22 finansiële jaar beloop R 354,392 miljoen (R 375,528 miljoen en R 375,528 miljoen vir die daaropvolgende twee jare). Die hoof uitgawe items is as volg: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34" name="Slide Number Placeholder 3"/>
          <p:cNvSpPr/>
          <p:nvPr/>
        </p:nvSpPr>
        <p:spPr>
          <a:xfrm>
            <a:off x="792468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19869B-8CCD-464E-A423-9D605D8A903E}" type="slidenum">
              <a:rPr b="0" lang="en-ZA" sz="1200" spc="-1" strike="noStrike">
                <a:solidFill>
                  <a:srgbClr val="045c75"/>
                </a:solidFill>
                <a:latin typeface="Constantia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" name="Picture 1" descr=""/>
          <p:cNvPicPr/>
          <p:nvPr/>
        </p:nvPicPr>
        <p:blipFill>
          <a:blip r:embed="rId1"/>
          <a:stretch/>
        </p:blipFill>
        <p:spPr>
          <a:xfrm>
            <a:off x="457200" y="3219480"/>
            <a:ext cx="8229600" cy="301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26T16:53:20Z</dcterms:created>
  <dc:creator>user29</dc:creator>
  <dc:description/>
  <dc:language>en-US</dc:language>
  <cp:lastModifiedBy>HP</cp:lastModifiedBy>
  <cp:lastPrinted>2021-05-04T10:44:47Z</cp:lastPrinted>
  <dcterms:modified xsi:type="dcterms:W3CDTF">2021-05-18T10:26:48Z</dcterms:modified>
  <cp:revision>232</cp:revision>
  <dc:subject/>
  <dc:title>BEAUFORT WEST MUNICIPALITY</dc:title>
</cp:coreProperties>
</file>